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89A-7868-48D4-BFB0-CF42193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2C7-B4FF-485F-9063-8764508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8AC-FA8B-4C34-B730-16B2347F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8ED-2DB8-41F4-AE83-C692B292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5A41-80D6-4312-ABBC-D34FB15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57B5-F376-4375-A1F0-F728AA0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6761-D23A-4E44-B71A-0547F04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E48-27C9-4693-A94A-716AE7F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7C63-39C2-4939-88AF-D2014AE3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2EF7-9DC7-4F09-A6FE-6D67BAC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9B5-D1FC-4DC5-A46C-0122E694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8F6-3131-47EB-A759-151312D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1607-D0B3-44E7-801B-27391DD0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5A9-943A-49F2-B437-543793C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F9F-4365-4191-98A0-7F6E4326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5C1C-C8D1-4125-B977-94EA09B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C306-AF09-4EEA-A965-D2619689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750B-3F39-48CC-9A32-0D326A5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B530-1D2C-4D60-B5B8-A7AF7BD8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1011-4CFF-46B9-9BB3-066E3992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7A47-2CF1-46DA-BF98-6DD2A47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D2D36-4250-4CFA-9904-D2E01CCA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382-7339-4D7F-806B-2C4700B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83DD-F654-4A94-B44B-0972561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B26D-420F-45B3-81D4-E1D01517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D2C1-BAF3-4C6D-B5C4-2AFA42B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CA25-C498-4061-B844-020AE1B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88F2-C16B-4455-8BC3-B5AB3589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D704-E610-452A-A773-95C19F92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BA1F-59E4-428E-A58B-AE502DB6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6F0B-29DB-4CD5-93B7-EFB9D8A9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4702C-6D59-4012-93FF-BBC40028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CF79E-62AD-4F1C-88C5-8135056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9F9-3085-4453-9B4B-0E2B8D4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E67D-D58D-48E5-9429-EA8307A8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A5FA-07D1-46DE-8CB2-1A8B23D0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2501-3941-4310-8404-08EF90D1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029D-4DBD-4C92-AB8C-A73D5D6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43E4-C49A-4C17-8AC7-A0AC30F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8B72-0C2A-4096-8200-F3F9939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750F-BDF6-47AE-B40A-BCA12492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BC1C-A4C5-4D56-9791-22C6EFA4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8B19-2560-4F37-95AE-C6C5D025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7D79-842D-43E2-83C7-8A2EC650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EB6-E3B5-495C-84E4-71FCFA8F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0FFFB-4C68-4297-B16D-ABB90FBC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A628-D15A-440F-BDFC-31149E98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BC7CE-846C-4205-B5BB-03251446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3E7A-2199-49AC-BEF6-45309FF8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8E10E-C224-46E8-88EB-82DAB0B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6C17-3560-44B9-9173-BA7CBC6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2A87-2102-45DD-A120-391CBB1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84AEE-C29F-45E9-A60A-4829FCA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869E3-34B0-4CB7-8F4B-C86D5B58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6F0F-3535-4DB9-B1C4-F5DD2805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09D-C7E8-4429-9C13-553D4A5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05C4-DCA9-4285-9712-615B5CB3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F02A-8DCD-447C-90FF-E2F83470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35AA9-8E25-409A-A557-FE572367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78671-8137-4005-8D1A-E48E5B4F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BD13-E264-4B31-8D50-0AA5BE0D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20F5B-FD70-4825-922C-0B2330A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F3ED0-96E4-4C3A-AFF6-6BE4CD38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E5CA-9945-420E-8811-297E29B0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D6C03-BF05-46D5-850F-EBE1FF7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07005-FF78-4179-84F5-78C0366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B82-4E20-461F-9C36-D6E49A2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01D2-550F-4117-B062-355B0FC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D43F-8EA7-4CAB-BE49-79F8D17F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FD408-0785-49D7-936D-C55FE576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8523-220F-4A21-BDA1-D6F5AF9A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DCC77-4C74-49AC-B5B8-A29E1330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AB61D-6C9E-45B1-B385-110529C3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63E42-9ED4-4282-9544-36DD5CD5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56EA-98D8-4A41-AFEA-50A51697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C76E-D414-4CE8-A08C-388C448D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D9966-F298-4A70-A5B6-AC93FDC3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6B8-F839-457C-AE39-BE608419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128E-289F-4409-B09B-6491268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1BDC2-093C-4C4D-BB95-EFCB95D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AB46-B41E-4D2D-AE6F-70952D6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7D0B6-1D3B-4373-AB9F-FA7391DF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99831-AE13-4E60-AE49-185BAFD6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DAFE2-EFF0-4D5F-9637-B49BBE4D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6802E-BFD5-40A0-91C3-B84E8D4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53F3-87D1-47DD-985E-1590EF10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E6EC-94BF-4287-A23F-E5FDA76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D0FCF-89E0-49D9-8E4D-B0AE4D9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A19-CB82-461B-A0E8-DD8C4B2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A96E-17C9-4181-B5BA-80BFEA1F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0356-2463-4583-8C50-40E8948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1C68D-D777-4332-B17F-1B14A106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D97B-5B33-4598-A8E5-4D53B8B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6D399-1442-4CA9-96E2-16CA76E0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6FF8E-5C35-44FB-B4EE-90EED83A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FCE9-7838-4F53-9DB8-76065FCB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CF0A-F2F8-47CB-B851-210D6D52EB8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F3AE-8D4F-4E3E-BEA2-9E0CF28F7D0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ED0-55AA-4014-B8E1-2BCC2DF5642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EDE0-9525-48FD-A737-9A9330C7BE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B9A-62A7-4651-96EE-0537192F73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1F8-64F0-43A6-A538-AF8740D5CBE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60E-E6DB-4FF3-923F-4A394FE23C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CB3-E19E-4FC3-A913-85399334127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an and his mother and father arrived at the zoo at 3:00 P.M. when the whale show started.  They paid $3 each to get in the zoo.  They each paid another $2 to see the whale show.  Then they counted 36 monkeys in the monkey exhibit, 19 storks in the tropical display and left at 5:00 P.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341280"/>
            <a:ext cx="82425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94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long were Alan and his parents at the zo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hat is the total amount of money that Alan and his mother and father spent at the zoo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more monkeys did they count than stork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an’s father paid for them to enter the zoo with a $20 bill.  How much money did he get in chang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the whale show lasted 15 minutes, what time was it ov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1:03:23Z</dcterms:created>
  <dc:creator>127lynchk</dc:creator>
  <dc:description/>
  <dc:language>en-US</dc:language>
  <cp:lastModifiedBy>127partidak</cp:lastModifiedBy>
  <dcterms:modified xsi:type="dcterms:W3CDTF">2011-10-14T21:21:27Z</dcterms:modified>
  <cp:revision>6</cp:revision>
  <dc:subject/>
  <dc:title>Monday</dc:title>
</cp:coreProperties>
</file>